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1DBF-89A8-4A98-9F92-AED508EF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3968-FC55-4F32-8D1D-2FB6953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B9B-AFEC-41B2-BE92-D74EE40B0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C1D-0DDB-45BB-8821-93E2AC16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0076-57D1-4AA8-BF9F-73D496B1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4C23-647C-4E07-8F52-3DAF3210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2549-5F08-45FA-B002-BA03BD48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021F-A543-4B0E-B7F1-07FD106F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1F6B-9E0A-4D09-80D8-3F316169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AE82-4185-46C2-8FAD-3786BAAA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D5DD-36A9-42E1-AFD8-D264156D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316D-E826-4389-8D4F-B25F028B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8086-6195-4296-8A73-5A5FC9FE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E857-7940-4E48-B077-9F012469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7F10-580E-4C59-AD2A-E66040F9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530D-826F-4B0B-80A2-AFE17077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8B11-3123-44A3-9F65-BF9814DC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B2FC5-DBD7-43B5-BB34-F2830750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4FF38-F945-43DD-9473-0F954706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004B-0005-40AD-90A8-CCFBF4C7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9648A-551F-440D-B834-EBDC9FE0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A0A1-9B93-4004-86EC-29801CD6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D8DF-D648-4E93-977D-FE8805C5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1BDAE-CABF-439D-967C-430B9EB0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E75C-F3DA-4A76-A45A-B210ADA6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4A829-F599-426B-BA3B-C19A40C1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795D9-D839-48BD-A2D1-EFD560B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744E2-A219-44E5-AEB4-71AF58ED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6F76D-B6D1-4311-A1C0-701EEEC8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4859-F605-428B-B2B1-A47A6A8B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F31-4B60-4338-A766-BC59F51D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7AA-68EB-4223-AF32-A3D12F77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35C-87FE-4993-9E5C-8924BF00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E4EA-F2FC-454C-99A4-6E1CE0D2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92E-AE19-4E66-B8ED-852B8696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9FE7-FC22-44AF-8987-89CF524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C39D-81A3-466B-A0CD-3187F9FA53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9355-8268-48CB-BCAB-D0F78112082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D773-BDB8-488E-9CA6-65C52540EE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404640"/>
            <a:ext cx="6624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6d1d"/>
                </a:solidFill>
                <a:latin typeface="Times New Roman"/>
              </a:rPr>
              <a:t>ПРОДУКТИВНОСТЬ СООБ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вклад в образование биомассы планеты вносит Мировой океан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816360" cy="2544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3816360" cy="2584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чего зависит и как измеряется плодородие сельскохозяйственного участка?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50028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изменяется плодородие в различных географических зонах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свойство организмов преобразовывать неорганическое вещество в свою биомассу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06864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ас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овокупность органического вещества все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тивность рассчитывается на единицу площади экосистем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85264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прирост биомассы за единицу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общая (суммарная) величина приращения биомассы за единицу времени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637000"/>
            <a:ext cx="2665440" cy="57600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5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71640" y="4508640"/>
            <a:ext cx="79200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508640"/>
            <a:ext cx="71928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масса продуцентов, накопленная в результате фотосинтеза или хемосинтез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997360"/>
            <a:ext cx="8229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вся биомасса, накопленная в результате фото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0766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фактическая скорость наращивания био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ая 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уммарная биомасса консументов и редуцентов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бол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672000" cy="252252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979640" y="342900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опически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3672000" cy="252108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5364000" y="5877000"/>
            <a:ext cx="266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с умеренной з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мен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305160" cy="2479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411280" y="3716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ы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3313080" cy="2448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500720" y="4149720"/>
            <a:ext cx="107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нд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16:55Z</dcterms:created>
  <dc:creator>Admin</dc:creator>
  <dc:description/>
  <dc:language>en-US</dc:language>
  <cp:lastModifiedBy>Admin</cp:lastModifiedBy>
  <dcterms:modified xsi:type="dcterms:W3CDTF">2013-03-04T16:23:46Z</dcterms:modified>
  <cp:revision>17</cp:revision>
  <dc:subject/>
  <dc:title>Слайд 1</dc:title>
</cp:coreProperties>
</file>